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200240" y="69336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Humnst BT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4560" y="438624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4844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1880" y="884844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6A3DF-0D79-4F2E-9F04-11E14560D3B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024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38624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rreglar la pág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38422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896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8422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8960" y="38422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05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708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905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708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8960" y="129492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960" y="129492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38422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896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8960" y="38422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8960" y="12949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38422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Humnst BT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ZapfHumn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ZapfHumn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ZapfHumn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ZapfHumn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ZapfHumn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olinomios.pp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-groups.dcs.st-and.ac.uk/~history/PictDisplay/Ruffini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315000"/>
            <a:ext cx="7696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apfHumnst BT"/>
              </a:rPr>
              <a:t>UNIVERSIDAD NACIONAL AUTÓNOMA DE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apfHumnst BT"/>
              </a:rPr>
              <a:t>FACULTAD DE INGENIE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apfHumnst BT"/>
              </a:rPr>
              <a:t>DIVISIÓN DE CI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ransparente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41316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17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Á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562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257800"/>
            <a:ext cx="74678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Realizado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Ing. Francisco Barrera Garc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Ing. Ricardo Martínez Góm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Ing. Rosalba Rodríguez Chá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71600" y="37980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709280"/>
            <a:ext cx="784872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Verdana"/>
                <a:ea typeface="Arial"/>
              </a:rPr>
              <a:t>Representación gráfica de un polino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o las raíces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 reale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un polinomio hacen que éste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 sea igual a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cero, en un plano cartesiano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to lo identificamos como las intersecciones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 o punto de tangencia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a gráfica del polinomio con el eje de las x (abscis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o es, los puntos en donde cruza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 o toca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la gráfica al eje horizontal tienen como abscisa la raíz del polinomio grafica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5328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ZapfHumnst BT"/>
              </a:rPr>
              <a:t>FACULTAD DE INGENI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ransparente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7668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016160"/>
            <a:ext cx="762012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l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G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rad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 un polinomio es igual al exponente mayor de la variable. Por ejemplo: 5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x</a:t>
            </a:r>
            <a:r>
              <a:rPr b="1" lang="es-ES" sz="1700" spc="-1" strike="noStrike" baseline="30000">
                <a:solidFill>
                  <a:srgbClr val="ff0000"/>
                </a:solidFill>
                <a:latin typeface="Verdana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s un polinomio de grad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56840"/>
            <a:ext cx="7543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ff33"/>
                </a:solidFill>
                <a:latin typeface="Verdana"/>
                <a:ea typeface="Times New Roman"/>
              </a:rPr>
              <a:t>Polino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Un</a:t>
            </a: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 polinomio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 una suma de términos llamados monomio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Un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monomio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 el producto de un coeficiente (número real o complejo), una variable (casi siempre x o y) elevada a un exponente (entero positivo o cero).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ZapfHumnst BT"/>
              </a:rPr>
              <a:t>Polinomios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945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419720"/>
            <a:ext cx="2666880" cy="12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René Descartes nació el 31 de Marzo de 1596 en La Haya, una pequeña y atractiva ciudad de Touraine (Francia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438200"/>
            <a:ext cx="2895840" cy="4276800"/>
            <a:chOff x="380880" y="1438200"/>
            <a:chExt cx="2895840" cy="4276800"/>
          </a:xfrm>
        </p:grpSpPr>
        <p:grpSp>
          <p:nvGrpSpPr>
            <p:cNvPr id="62" name=""/>
            <p:cNvGrpSpPr/>
            <p:nvPr/>
          </p:nvGrpSpPr>
          <p:grpSpPr>
            <a:xfrm>
              <a:off x="396720" y="1488960"/>
              <a:ext cx="2864160" cy="4175280"/>
              <a:chOff x="396720" y="1488960"/>
              <a:chExt cx="2864160" cy="4175280"/>
            </a:xfrm>
          </p:grpSpPr>
          <p:sp>
            <p:nvSpPr>
              <p:cNvPr id="63" name=""/>
              <p:cNvSpPr/>
              <p:nvPr/>
            </p:nvSpPr>
            <p:spPr>
              <a:xfrm>
                <a:off x="396720" y="1488960"/>
                <a:ext cx="2864160" cy="417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ES_tradnl" sz="295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es-ES_tradnl" sz="32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</a:t>
                </a: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6720" y="1488960"/>
                <a:ext cx="2864160" cy="417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80880" y="1438200"/>
              <a:ext cx="2895840" cy="4276800"/>
            </a:xfrm>
            <a:prstGeom prst="rect">
              <a:avLst/>
            </a:prstGeom>
            <a:noFill/>
            <a:ln w="103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descart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188280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7880" y="1523880"/>
            <a:ext cx="1674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ené Desc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Regla de los signos de Desc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1905120"/>
            <a:ext cx="411480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Proporciona información acerca del número y localización  de los ceros de una función polinomial, de modo que sepamos dónde buscar los ce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Esta regla supone que el polinomio está escrito en potencias descendentes de x, y necesita que contemos el número de variaciones de signo de los coeficient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f ( x) 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y </a:t>
            </a:r>
            <a:r>
              <a:rPr b="0" i="1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f ( -x) 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732480"/>
            <a:ext cx="89154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Teorema</a:t>
            </a:r>
            <a:r>
              <a:rPr b="0" lang="es-MX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i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(x)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s un polinomio en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x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 coeficientes en </a:t>
            </a:r>
            <a:r>
              <a:rPr b="0" lang="es-MX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 grado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 &gt;= 1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ntonces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(x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tiene n raí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ZapfHumnst BT"/>
              </a:rPr>
              <a:t>Teorema fundamental del Álgebra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0512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Total de raí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Teorema </a:t>
            </a:r>
            <a:r>
              <a:rPr b="0" lang="es-MX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undamental del álgebra</a:t>
            </a:r>
            <a:r>
              <a:rPr b="0" lang="es-MX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5ffff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i 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(x)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s un polinomio en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x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on coeficientes en </a:t>
            </a:r>
            <a:r>
              <a:rPr b="0" lang="es-MX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 grado mayor o igual que uno, entonces tiene al menos una raíz en </a:t>
            </a:r>
            <a:r>
              <a:rPr b="0" lang="es-MX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53040" y="1523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330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ff00"/>
                </a:solidFill>
                <a:latin typeface="Verdana"/>
                <a:ea typeface="Times New Roman"/>
              </a:rPr>
              <a:t>Posibles raíces r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e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19520" y="2362320"/>
          <a:ext cx="472428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362320"/>
                    <a:ext cx="4724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219320" y="297180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un polinomio en con coeficientes </a:t>
            </a:r>
            <a:r>
              <a:rPr b="0" lang="es-ES_tradnl" sz="1600" spc="-1" strike="noStrike">
                <a:solidFill>
                  <a:srgbClr val="00ff00"/>
                </a:solidFill>
                <a:latin typeface="Verdana"/>
                <a:ea typeface="Times New Roman"/>
              </a:rPr>
              <a:t>entero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onde</a:t>
            </a:r>
            <a:r>
              <a:rPr b="1" lang="es-ES" sz="1600" spc="-1" strike="noStrike">
                <a:solidFill>
                  <a:srgbClr val="b5ffff"/>
                </a:solidFill>
                <a:latin typeface="Verdana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b5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390760" y="3581280"/>
          <a:ext cx="16956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0760" y="3581280"/>
                    <a:ext cx="1695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3567240"/>
          <a:ext cx="685800" cy="3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3567240"/>
                    <a:ext cx="6858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166760" y="3962520"/>
          <a:ext cx="561960" cy="76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6760" y="3962520"/>
                    <a:ext cx="561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219320" y="4022640"/>
            <a:ext cx="6781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s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mínima expresión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e una raíz racional de P(x)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entonces </a:t>
            </a:r>
            <a:r>
              <a:rPr b="0" lang="es-ES" sz="2000" spc="-1" strike="noStrike">
                <a:solidFill>
                  <a:srgbClr val="00ff00"/>
                </a:solidFill>
                <a:latin typeface="Verdana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s un factor de 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0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y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ff00"/>
                </a:solidFill>
                <a:latin typeface="Verdana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s un factor de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</a:t>
            </a:r>
            <a:r>
              <a:rPr b="0" lang="es-MX" sz="2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n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5812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b5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96080" y="5715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00200" y="6370560"/>
            <a:ext cx="5973840" cy="106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715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/>
          </p:cNvPr>
          <p:cNvSpPr/>
          <p:nvPr/>
        </p:nvSpPr>
        <p:spPr>
          <a:xfrm>
            <a:off x="762012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ZapfHumnst BT"/>
              </a:rPr>
              <a:t>Teorema del residuo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Teorema del residuo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ean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(x)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un polinomio en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x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 coeficientes en </a:t>
            </a:r>
            <a:r>
              <a:rPr b="0" lang="es-MX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y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 </a:t>
            </a:r>
            <a:r>
              <a:rPr b="0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 El residuo de dividir entre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x - a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s igual a</a:t>
            </a:r>
            <a:r>
              <a:rPr b="0" lang="es-MX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p(a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Teorema </a:t>
            </a:r>
            <a:r>
              <a:rPr b="0" lang="es-MX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del factor</a:t>
            </a:r>
            <a:r>
              <a:rPr b="0" lang="es-MX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ccff"/>
                </a:solidFill>
                <a:latin typeface="Verdana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66ccff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ean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p(x)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un polinomio en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 coeficientes en </a:t>
            </a:r>
            <a:r>
              <a:rPr b="1" lang="es-ES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y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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 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(x)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s divisible  entre 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x-a,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i y sólo si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00"/>
                </a:solidFill>
                <a:latin typeface="Verdana"/>
                <a:ea typeface="Times New Roman"/>
              </a:rPr>
              <a:t>                                </a:t>
            </a:r>
            <a:r>
              <a:rPr b="0" lang="es-ES" sz="2000" spc="-1" strike="noStrike">
                <a:solidFill>
                  <a:srgbClr val="00ff00"/>
                </a:solidFill>
                <a:latin typeface="Verdana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ff00"/>
                </a:solidFill>
                <a:latin typeface="Verdana"/>
                <a:ea typeface="Times New Roman"/>
              </a:rPr>
              <a:t>p (a)  = 0</a:t>
            </a:r>
            <a:endParaRPr b="0" lang="en-US" sz="20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600200"/>
            <a:ext cx="815328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Verdana"/>
              </a:rPr>
              <a:t>Cota superior e inferior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f(x) = x</a:t>
            </a:r>
            <a:r>
              <a:rPr b="1" lang="es-ES_tradnl" sz="2000" spc="-1" strike="noStrike" baseline="30000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+ a</a:t>
            </a:r>
            <a:r>
              <a:rPr b="1" lang="es-ES_tradnl" sz="1800" spc="-1" strike="noStrike" baseline="-30000">
                <a:solidFill>
                  <a:srgbClr val="ffff00"/>
                </a:solidFill>
                <a:latin typeface="Verdana"/>
              </a:rPr>
              <a:t>n-1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x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Verdana"/>
              </a:rPr>
              <a:t>n-1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+ a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Verdana"/>
              </a:rPr>
              <a:t>n-2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x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Verdana"/>
              </a:rPr>
              <a:t>n-2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+ ... + a</a:t>
            </a:r>
            <a:r>
              <a:rPr b="1" lang="es-ES_tradnl" sz="1800" spc="-1" strike="noStrike" baseline="-30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x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+ a</a:t>
            </a:r>
            <a:r>
              <a:rPr b="1" lang="es-ES_tradnl" sz="1800" spc="-1" strike="noStrike" baseline="-30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 x + a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0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El conjunto de posibles raíces de f(x) se forma con los factores de </a:t>
            </a:r>
            <a:r>
              <a:rPr b="1" lang="es-ES_tradnl" sz="1800" spc="-1" strike="noStrike">
                <a:solidFill>
                  <a:srgbClr val="00ff00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00ff00"/>
                </a:solidFill>
                <a:latin typeface="Verdana"/>
              </a:rPr>
              <a:t>0</a:t>
            </a:r>
            <a:r>
              <a:rPr b="0" lang="es-ES_tradnl" sz="16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( término independiente ), hay que considerar estos factores tanto con signo positivo como con signo negati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La forma en que podemos usar esta información del término independiente es la siguiente, puesto que cualquier elemento de este conjunto puede ser raíz de f(x) hay que evaluar a f(x) en algún valor de es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46280" y="111276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ransparente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6400800"/>
            <a:ext cx="777240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23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352680"/>
            <a:ext cx="495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1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371600"/>
            <a:ext cx="40384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egla de Ruffi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Verdana"/>
              </a:rPr>
              <a:t>La</a:t>
            </a: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 regla de Ruff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6600"/>
                </a:solidFill>
                <a:latin typeface="Times New Roman"/>
              </a:rPr>
              <a:t>(División sintética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e util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fundamentalmente cuando el polinomio dividendo tiene una sola  variable y el divisor es de la for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(x - a). Utiliza los coeficientes del dividendo y el valor de "a", para determinar los coeficientes del polinomio cociente y el valor del residuo (observándose que el residuo siempre será un núme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Ruffin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1981080"/>
            <a:ext cx="22100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029200" y="4724280"/>
            <a:ext cx="3657600" cy="549360"/>
            <a:chOff x="5029200" y="4724280"/>
            <a:chExt cx="3657600" cy="549360"/>
          </a:xfrm>
        </p:grpSpPr>
        <p:sp>
          <p:nvSpPr>
            <p:cNvPr id="113" name=""/>
            <p:cNvSpPr/>
            <p:nvPr/>
          </p:nvSpPr>
          <p:spPr>
            <a:xfrm>
              <a:off x="5029200" y="4724280"/>
              <a:ext cx="365760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029200" y="4724280"/>
              <a:ext cx="3657600" cy="549360"/>
              <a:chOff x="5029200" y="4724280"/>
              <a:chExt cx="3657600" cy="549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029200" y="4724280"/>
                <a:ext cx="3657600" cy="54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029200" y="4724280"/>
                <a:ext cx="3657600" cy="549360"/>
                <a:chOff x="5029200" y="4724280"/>
                <a:chExt cx="3657600" cy="549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29200" y="4724280"/>
                  <a:ext cx="3657600" cy="5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5029200" y="4724280"/>
                  <a:ext cx="3657600" cy="549360"/>
                  <a:chOff x="5029200" y="4724280"/>
                  <a:chExt cx="3657600" cy="549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029200" y="4724280"/>
                    <a:ext cx="3657600" cy="5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29200" y="4724280"/>
                    <a:ext cx="3657600" cy="5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Matemático y médico, nació el 22 de septiembre de 1765 en Valentano y murió en Módena el 9 de mayo de 1822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1" name=""/>
          <p:cNvGrpSpPr/>
          <p:nvPr/>
        </p:nvGrpSpPr>
        <p:grpSpPr>
          <a:xfrm>
            <a:off x="5029200" y="1447920"/>
            <a:ext cx="3657600" cy="4276440"/>
            <a:chOff x="5029200" y="1447920"/>
            <a:chExt cx="3657600" cy="4276440"/>
          </a:xfrm>
        </p:grpSpPr>
        <p:grpSp>
          <p:nvGrpSpPr>
            <p:cNvPr id="122" name=""/>
            <p:cNvGrpSpPr/>
            <p:nvPr/>
          </p:nvGrpSpPr>
          <p:grpSpPr>
            <a:xfrm>
              <a:off x="5049000" y="1498320"/>
              <a:ext cx="3617640" cy="4174920"/>
              <a:chOff x="5049000" y="1498320"/>
              <a:chExt cx="3617640" cy="4174920"/>
            </a:xfrm>
          </p:grpSpPr>
          <p:sp>
            <p:nvSpPr>
              <p:cNvPr id="123" name=""/>
              <p:cNvSpPr/>
              <p:nvPr/>
            </p:nvSpPr>
            <p:spPr>
              <a:xfrm>
                <a:off x="5049000" y="1498320"/>
                <a:ext cx="3617640" cy="41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ES_tradnl" sz="295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es-ES_tradnl" sz="32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</a:t>
                </a: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49000" y="1498320"/>
                <a:ext cx="3617640" cy="41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029200" y="1447920"/>
              <a:ext cx="3657600" cy="4276440"/>
            </a:xfrm>
            <a:prstGeom prst="rect">
              <a:avLst/>
            </a:prstGeom>
            <a:noFill/>
            <a:ln w="103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791320" y="1523880"/>
            <a:ext cx="1752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olo Ruff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00:15:37Z</dcterms:created>
  <dc:creator>Lic. Guillermo Alarcón</dc:creator>
  <dc:description/>
  <dc:language>en-US</dc:language>
  <cp:lastModifiedBy>Matemáticas_6</cp:lastModifiedBy>
  <cp:lastPrinted>2000-04-04T23:08:53Z</cp:lastPrinted>
  <dcterms:modified xsi:type="dcterms:W3CDTF">2007-01-17T18:13:50Z</dcterms:modified>
  <cp:revision>349</cp:revision>
  <dc:subject/>
  <dc:title>Sin título de diapositiva</dc:title>
</cp:coreProperties>
</file>